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1DA-82CC-4068-8453-B9CC791B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DE4-5FFB-456B-8CF5-8DED4511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ABCBA-6E29-40ED-AFCC-019FEEBA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C32CC-C92B-4881-9B5A-CD94D7A7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4695B-3CF9-4946-8878-0F306AE5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9160C-6695-4735-A540-77D79873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EAE57-67C1-4211-9CA6-9F879CF1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F72C7-66FE-41EE-8951-6890F63B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73D10-DF94-4B55-BE8D-9D625649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383FC-E926-47EA-9713-9777149D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49127-3E36-49E6-B13E-3043265B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CF658-47DC-400E-BEBA-D5EFB0D6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989-816F-4278-A8E2-6563B587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A065D-5E8B-41CE-91A5-FA358899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D999B-8C94-4584-8960-2CF36D91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3D761-E3E0-4ED3-B7D9-A03B1739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FD857-A3A1-4925-9222-883FD980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35E02-06F7-4F26-903F-71AACBF4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F8A10-5F42-4D61-9166-020887E2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830AD-B9FB-430A-8EE8-A8FEDC01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7C470-FBF0-4315-9DCE-497A95C1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8522D-50F0-4BEB-B83E-CF4C0B34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1E1FB-84DF-4E98-AB9F-2EB7AB8F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38B-4B5F-47D4-80DD-BD3ABC94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D1BA1-FE2E-49D7-A850-6CE8E53E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2686C-91F7-46C6-B084-B4F32F62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27B49-AB38-4477-968C-8003BB1F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A3359-53DF-4FA5-9E1A-9241775D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D61D0-7CA2-4734-A811-93ED4559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58D24-5C7B-46BA-AB93-754C799F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7E954-1878-4497-B6C9-DBBE90BA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C6011-A862-4360-9E38-FB37B281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2D97A-8FA5-4217-99F0-0AB6567E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75C86-D743-422A-BEB7-762D4D2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4526-CA71-41CD-A5AB-AF9648AE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249F5-2F13-497A-B5B5-38D2F064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45893-35D1-4EF7-B698-4E1C579E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F2EB2-8F4A-4245-86D4-76C90E67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3C367-A25D-4968-92B0-3FF4C5ED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A87C9-D7B5-4FFB-866C-4B384D61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68098-D527-4EF3-B9E4-E1292FF6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4785C-459E-46DD-8509-DBF945C0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E4F95-2FBB-4E73-B9E6-E8BA95F4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97548-83EA-4ADA-B868-2BC35C19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47707-ED89-40D9-B87C-D5595D97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E38A-7CA8-4A21-A17B-A263C85D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2760A-FA1B-4887-B5FC-2D649C7C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E8C99-44DF-4BFB-B789-6D19BBC5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D12E1-751F-43C8-AFE7-80470286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C889D-F278-4CA7-8ADF-99EA323D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63739-D0B5-4212-A90A-2618D9DE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F90D-0543-4A59-8699-F8081979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3108-8C60-43C5-8736-194BE00B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80B0-BF8A-42E5-A388-132597D3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1AFA-8094-4C1C-9F9F-5F319DB0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7EC1-CD93-4BF6-9DB8-D8F1723E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225-6DA3-49AF-8150-2205E940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4D2B-2B50-4A2F-B51F-61FD6480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D0B5-CC87-4FE9-80CE-CA140061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0230-24F6-438C-9CDD-632C4042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CB10-16B0-480C-8B7C-8D283091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D80A-EB0E-46A4-B0C2-6CBD165A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DFC6-AE4D-41DF-85FD-73E97773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1098-1346-4DE2-9504-A876C20E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56EA-DB7E-4821-A77D-4CFD599D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936E-8484-44BF-A67F-F3CF1552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4B67-D594-4BC5-A7DF-61A071A0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DE8-CDF9-40EE-AE5C-298C6EB3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96FC-F802-4DF1-A68A-54F0D1F0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BD4C-6AE5-48D5-B324-E2484D60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C84A-33AE-4F91-87C0-73B2813C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858E-6D98-4153-8976-6B7E44A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2293-1200-4625-96E4-2091277C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1977D-94AD-4A66-BC7A-A7C43DAD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3A77-1711-478B-AD04-8B3FEF1D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6847-2C5D-46B3-B2E8-CF339B2B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7AB6-F41E-4158-BCF9-286F43C6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87787-6FE4-4146-9169-CE7B400B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42A-D583-4DB4-BC64-14E16B8A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B268D-0A5D-4C64-8CE2-DE4A23C8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ABA2-310F-4BFC-9AD5-14E20AEB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A449A-3347-4563-8DB5-E89DAB35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947D-026A-4AFD-B88E-3C7E1E6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7FAF8-03F2-473A-9D6C-653F2308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98D5E-4C82-4E79-A391-AC0F42A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DE57-8789-4EF0-B9B4-7376A670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5F10-F112-42F7-A43D-DB58978A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E348C-9A57-436C-9C89-01DB425E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B3A3-650E-4CBC-8AD8-D88C6233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351-DF22-4CF3-AEE2-A0283D00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9411-0E4C-4232-BFA8-E92A207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A024C-10A6-4ED4-8B75-543E2693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F4CB9-CDA7-4466-B97D-2A5DA335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673D4-3A5E-415E-9FE7-6BFAEA91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DD573-EBFC-4EA8-BFFB-3B5C6A60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CE3AF-7FD1-4CEC-833C-92D3F57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3475A-64EF-4372-8FCE-9F4AD0EA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09D3E-C59A-4EE2-8480-D8217E5B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3D461-B1EC-47A8-9D70-3F4CFD8F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52D8D-8B10-4137-BA5B-E7EE3D04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1A5-3C63-462D-A4CE-32B7CD5D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6B893-BE35-4C01-A3AF-E8DEFAE7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2E4B2-F714-4C22-8B3A-764EE879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A030-1BBA-44B3-BA2A-CF09A672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E3349-CCFB-4BEB-9B27-06E79A60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52701-5C22-48AC-88AD-CF32ACF4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FCE08-910D-4000-9663-A5AECF97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C307F-2831-40D6-B53C-F69E768F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DC346-BACE-43F8-B064-D74D03A5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278C7-5008-476D-B22A-E5927FBC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13838-E02C-4399-9997-57617915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BD2-D504-4538-82C2-10AAA38C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A2B6F-EE21-432F-A34E-6D2A29A5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8DB91-08F3-43BB-87A3-371C6D27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296BF-1275-440E-9A91-1FADCAC0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A4792-E7F6-488B-BB1C-0F28C559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F4877-AD6B-4500-B455-6B4963DC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B362D-900B-4BAB-93CD-E6B33310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93EF9-4D85-40A2-AAF8-D4951187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49457-2CC6-4F57-8AFB-456D0215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A91CA-9178-4433-B953-C29A7EAF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8C1CC-CECB-4EB1-A0A3-06F43118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472-946F-4CCC-9720-3D75AE70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2817A-EB01-4162-99A5-9ADBF45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33631-65A2-4A90-84F1-7609A906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C57C-D380-4B32-B131-0BDD1855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A2AF1-B3E1-428E-9D3F-18A5CF81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A600A-525F-46F1-BF2D-1C7E3145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E6D3B-AE3D-414C-BBB0-320F41FE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E59C0-7BF4-4A0E-9E29-535A7DDA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B385D-D43E-4BE2-B467-D04E90A7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606E2-ABA9-410B-9594-9C6BB742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8550D-CA69-4628-98A3-1F20BCA4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5CB-6374-4A48-9555-37B62B46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1F75C-1B7E-42C2-A06E-BDB15C56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76E76-B670-4240-AF4C-D379213F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8B928-4E70-47F4-890E-4B12CFF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238B5-8DF7-4C0C-846B-17871301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7D3AD-7758-4F9F-A373-E534CED8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2FCC8-059C-4930-BB88-BE5BBAAC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6F285-C8D8-470E-A622-E4B32821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7E4F0-F2A3-4745-BBCC-2B074B29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0A061-61CF-4CAF-92FE-638B2E3F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C6BCD-A5CD-4835-BE61-2B81C85A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7FAE-8E43-4567-870D-474B1BCF6B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4CFC-FC64-4C8B-8621-EF76FEA8C1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D887-63DB-4784-B9F3-A0A619CCF5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FA6F-8215-496E-B2E2-0392B65527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CA74-42F7-46DD-A117-77D5A120A9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479D-C296-43D5-A6DA-1410E35118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A3F0-6BEF-4410-95B8-84B22A03E1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42E2-7910-4B54-B925-95F58C6B60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A1CC-710B-4799-8B50-522005619D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26DC-C01D-43EB-B33A-B643D28612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99D5-6FD1-4916-AE10-B8E0C63EB6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9DCA-1A2D-4E2E-BEC8-65A8B71C92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66 Láska Božia, svätá čist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 Božia, svätá, č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náš, Boží Sy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ašich srdciach ubytuj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sloboď spod ťarchy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ty nás zastupuj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lucítiš s hriešnik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júcim rád milosť dáv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lu zemským pútni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ou Ducha, slovom prav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zbroj slabých, bezmocn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ľa svojho slova vráť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raj dávno stra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enie len v tebe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ám ži v nás život s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celý svet ťa pozn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ájomnou nás láskou sp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konaj v nás, svät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elo, čo si započ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je tvoj ľud priprav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vrátiš ako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menu od slávy k slá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ôsob mocou svojou v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e teba oslavo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i v zemi večných krá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5-15T08:17:07Z</dcterms:modified>
  <cp:revision>33</cp:revision>
  <dc:subject/>
  <dc:title>Je veľký náš Pán, on slávy je Kráľ Nech do všetkých strán  spev vrúcnych znie chvál.</dc:title>
</cp:coreProperties>
</file>